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F9D-B6DA-4C31-BA65-96B5B5C5B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44B-8481-47FE-B888-18F984D55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FDC-6104-41DE-B095-37AB8C1B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C77-3118-40C4-986B-939A5131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973DA-5D9C-4217-B469-F4B0226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BF412-17D8-41FF-9BB4-06C5730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036A0-E2E2-4AC7-B044-DD6F0E9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0E196-7391-4EDA-81B3-6981034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8F7C6-01FE-4AEA-AC9D-8BDBF50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856BF-BD19-4998-8BBC-D609180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CC84-E2EC-446F-86B7-23FC59E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D6CC-8A6C-4B25-9449-C99FA7DE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7EDA7-B9DB-4B25-A4E5-6ACC7781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16B-8CE0-4CE9-BC4B-7002B514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1F4-B5FC-45DF-A6C6-833C23F9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AA3-3B7D-433F-870C-8F1C28BD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21D8-9BD5-4283-A8DE-54CEBC6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54CD-47A2-4217-81A2-6E5904B2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399-D0B2-4455-A843-B8C4958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E9C-62BE-415E-85F4-E55A1C33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5E8-4F9E-4DA6-A002-9482682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26F-0E25-4C7B-B5BF-12CEADC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CA6-9642-40F8-AD98-3D0A817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D28-D7FF-460D-93EB-0FE93B4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D64A-951C-4B01-8FE5-9052958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ECE2-F19D-4E21-8F6E-ADE6086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533-A2C1-4BAE-AF48-2E6EF7F3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E9EC-6DBB-46B2-8B27-D7BAF38E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6B6C-095D-4C3F-8725-0B8DBEC3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AB6B-DEC5-49C4-A4D0-320059A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45FB-6903-412B-94C1-A3C9F0EA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E389-20A3-4C86-AFB6-8BE6789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5843-B82D-44F2-8C25-D3C887F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D76-D387-4F14-AC70-E4BD4AFA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1A4C-1E63-461D-951D-CC9F6730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81F6-4A98-4680-A465-F02A8E0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317E-66A6-452F-9CF7-E917AB0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D6BB-4504-4EE6-9537-94B481F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EA3B-E3CA-4FA5-9685-5429F97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00A2-E4A9-4FFE-8444-1EB0772D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0EA6-B564-40D9-910E-5F07773D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2147-185F-4952-82F6-20DDAF83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6AB6-D2CE-4D73-BE00-D07F086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886C-37B2-4778-9CC3-A901B25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1C3-7E70-4AEC-86C4-6FF60F4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EB32-BA30-452E-9B32-C394557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B6D5-D52D-4F31-BA3B-6FD0165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8704-A723-4BE3-BC30-1BCBB85B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559F-A8D0-4562-A0D5-5DA880B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FBC3-BDE0-4856-9902-DE4BF30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B94F-8DD4-4E1B-8CB9-04A8497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75B2-62EA-4272-AF43-6962A38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AE15-2DD2-402C-9F90-0970383C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C594-AE46-4074-B17F-05ED3782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1DE0-3FE7-4288-9728-C1772744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4EA-F146-4A0A-B452-99F92817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81A4-758E-454C-B7A3-41C3885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0ABF-D9CA-468A-BB7D-88178B18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984E-AF43-4F3D-8BAD-1872A2A2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99A9-D7EA-4EF0-8A30-919176A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23A3-2630-49AA-97FD-354A3D6B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2BB4-AA70-4E01-AF20-314198F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1AA0-A22C-4452-8DB3-2F5497D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D99F-C06F-4C82-B97F-0856A66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A7CE-600B-48BF-9314-48CB7DE2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2C6E-0982-4A0B-812C-49E22526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781-C5E4-4D5C-BB22-9AA85E6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282D-1ED7-471B-858A-D4686136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5D08-D9CE-441E-A7F3-23EEBD25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2369-BA50-421A-89CE-BBE782E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2F34-71F0-4809-B992-01DCC0AA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D758-183F-4BDE-AFFC-A4A85813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9CA9-7157-4934-9E0C-A7D2206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4BBC-B6A2-4E61-80B5-AC3BB72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BF176-7BDB-4305-8AEF-C0FC8BB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8C1A-4B55-4AAC-95C2-B55290B8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2DE2-31E1-4133-ADED-D32927A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CE2-594F-4C7E-A8E8-75F39D1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2D064-FB94-4831-9569-F15A94D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47218-91BA-42B4-A3D0-BA169A2A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FA82-D9EA-45EB-AFC8-209C64F0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952F-474E-4761-A31B-05638C5F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0CCE9-890D-4E16-98AB-A21FA36F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A1F4-C0D4-44BE-840F-EDAD3B81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EFA6-2845-4AB7-A0FF-F8B48B1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C402-40F8-4122-AD83-CDA9EAF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16D5-B27C-45E8-82A5-B92B139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4E0EF-D315-4F28-96B8-A969D1A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029-B3DA-4FCB-B979-F0CE9AC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4D11-00E0-4DC3-A18A-6EFD691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80A6-6B3A-45C9-925B-4B466F6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87E52-F5F5-4818-97BE-883FA95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397EA-9424-4547-9E35-9C84612C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646A-610B-4744-96DC-44088462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776D-40E4-4F80-B922-08F0397D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2AACD-8194-467E-A59F-AD9EAB8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A9074-2872-45FC-A5FF-3BCD625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51DFD-3B2E-46AB-8182-AFC4E8C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D7B0-023F-4AD6-A781-5BE0266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582-494C-4E93-8E74-AA83A26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53D6-21A9-4D6E-85A9-011FE81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ED5D9-99EA-41D4-BEB7-EDD6135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32C0-0AB5-4ECB-A114-8BC2AD3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DF0F-434E-4B98-895D-8349D58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E588F-49F5-4C31-B1FA-31A3BDD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54276-FB8C-41B6-BF69-61B56BEC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A722-C420-4938-AE3E-F85F864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5FCFC-696A-4DD2-8CAD-494CF35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12BB0-0671-4CE3-A92F-A23B285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5653-D517-43F8-A30B-1C7EA22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86D-4269-47C4-B080-97003CFF88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B609-C6A0-49F5-B940-5247098F53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355-837A-43E9-A931-6394D221E2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978-EF0B-421D-AF81-0340EF72F4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8CE-CD79-4797-A602-1FDC355B3E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613F-9AB7-41B9-B676-D61D5BCFBF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7E0F-1264-4631-9FA8-B112348D96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65C-2A70-45D5-8C06-36888714DA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CAC-0276-4572-BCEB-9D267DA679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03280" y="529920"/>
            <a:ext cx="818352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ый семинар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еализация адаптированной образовательной программы для детей с ЗПР в условиях общеобразовательной школ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3643200" y="4221000"/>
            <a:ext cx="190512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ая часть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ет состав учебных предметов обязательных предметных областей, которые должны быть реализованы во всех имеющих государственную аккредитацию образовательных организациях, реализующих АООП НОО, и учебное время, отводимое на их изучение по классам (годам) обуч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учебного плана, формируемая участниками образовательных отношени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реализацию особых (специфических) образовательных потребностей, характерных для обучающихся с ЗПР, а также индивидуальных потребностей каждого обучающего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вом классе  и первом дополнительном классах эта часть отсутствуе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68680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99840"/>
            <a:ext cx="837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АООП НОО для обучающихся с ЗПР предусматривает использование базовых учебников для сверстников без ограничений здоровья. С учётом особых образовательных потребностей обучающихся с ЗПР применяются специальные приложения и дидактические материалы (преимущественное использование натуральной и иллюстративной наглядности), рабочие тетради и пр. на бумажных и (или) электронных носителях, обеспечивающих реализацию программы коррекционной работы и специальную поддержку освоения АООП НО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69800" y="19512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требованиями ФГОС НОО обучающихся с ОВЗ внеурочная деятельность организуется по направлениям развития ли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но-нравствен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интеллекту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культур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о-оздоровите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686800" cy="1554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24000" y="126828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коррекционной работе являю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ребенку успеха в различных видах деятельности с целью предупреждения негативного отношения к учёбе, ситуации школьного обучения в целом, повышения мотивации к школьному обучен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324000" y="189000"/>
            <a:ext cx="8351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еся с ЗПР имеют право на прохож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ку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ежуто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й итого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ттестации освоения АООП НОО в иных фор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ьные условия проведения текущей, промежуточной и итоговой (по итогам освоения АООП НОО) аттестации обучающихся с ЗПР включаю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форму организации аттестации (в малой группе, индивидуальную) с учетом особых образовательных потребностей и индивидуальных особенностей обучающихся с ЗПР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ычную обстановку в классе (присутствие своего учителя, наличие привычных для обучающихся опор: наглядных схем, шаблонов общего хода выполнения заданий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тствие в начале работы этапа общей организации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рованные инструкции с учетом особых образовательных потребностей и индивидуальных трудностей обучающихся с ЗП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дифференцированной помощи: стимулирующей, организующей, направляющ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еличение времени на выполнение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организации короткого перерыва (10-15 мин) при нарастании в поведении ребенка проявлений утомления, исто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8893080" cy="1451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39280" y="24210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ис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остранного язы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16000" y="242100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организа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567360" y="1268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РЕАЛИЗУЮ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ДОЛЖНЫ ВХОДИТЬ: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олигофренопедаго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сихологи или педагоги-психоло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адаптивной физ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ботни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 реализации АООП НОО обучающихся с ЗПР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обучения в одном классе с обучающимися, без ограничений здоровь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может временно или постоянно обеспечить (по рекомендации ПМПК) участ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827920" cy="1871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988640"/>
            <a:ext cx="85374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1. АООП НОО,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лжна превышать 25 обучающихся, число обучающихся с ЗПР в классе не должно превышать четыре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альные обучающиеся –не имеющие ограничений по здоровь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2. АООП НОО в классе (группе) не должна превышать 15 челове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58560" y="691920"/>
            <a:ext cx="817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ичество учащихся детей с ОВЗ на ставк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дефектолога (сурдопедагога, тифлопедагога)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логопеда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-психолога на каждые 20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, ассистента (помощника) на каждые 1 - 6 учащихся с ограниченными возможностями здоровь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87440" y="2262240"/>
            <a:ext cx="86868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инистерство образования и науки Российской Федерации утвердило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  государственный образовательный стандарт начального общего образования обучающихся с ограниченными возможностями здоровья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 государственный образовательный стандарт начального общего образования обучающихся с умственной отсталостью (интеллектуальными нарушениям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е стандарты применяется к правоотношениям, возникшим с 1 сентября 2016 год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иц, зачисленных до 1 сентября 2016 г. для обучения по адаптированным образовательным программам осуществляется по ним до завершения обу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арианта АООП НОО для обучающегося с ЗПР осуществляется на основе рекомендаций ПМПК, сформулированных по результатам его комплексного психолого-медико-педагогического обследования, в случае наличия у обучающегося инвалидности - с учетом ИПР и мнения родителей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своения АООП НОО сохраняется возможность перехода обучающегося с одного варианта АООП НОО на другой. Перевод обучающегося с ЗПР с одного варианта программы на другой осуществляется организацией на основании комплексной оценки результатов освоения АООП НОО, по рекомендации ПМПК и с учетом мнения родителей (законных представителей)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85840" y="45684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назначен для образования обучающихся с ЗПР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гших к моменту поступления в школу уровня психофизического развития, близкого возрастной н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зволяющего получить НОО, полностью соответствующее по итоговым достижениям к моменту завершения обучения образованию обучающихся, не имеющих ограничений по возможностям здоровья, в те же с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руктуру АООП НОО обязательно включается Программа коррекционной работы, направленная на развитие социальных (жизненных) компетенций обучающегося и поддержку в освоении АООП Н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285840" y="240480"/>
            <a:ext cx="8715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назначен для образования обучающихся с ЗПР, котор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ются уровнем развития несколько ниже возрастной нор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тставание может проявляться в целом или локально в отдельных функциях (замедленный темп или неравномерное становление познавательной деятель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вариант предполагает пролонгированные сроки обучения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а счет введения первого дополнительн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й является организация специальных условий обучения и воспитания обучающихся с ЗПР, которые включают использование адаптированной образовательной программы, специальных методов обучения и воспитания, проведение индивидуальных и групповых коррекционно-развивающих занятий, направленных на коррекцию недостатков в физическом и (или) психическом развитии и формирование социальных (жизненных) компетен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603360"/>
            <a:ext cx="821520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специальной поддержке обучающихся с ЗПР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собых образовательных потребностей обучающихся с ЗПР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ая поддержка предполагает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формировании адекватных отношений между ребенком, учителями, одноклассниками и другими обучающимися, родителями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по профилактике внутриличностных и межличностных конфликтов в классе, школе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эмоционально комфортной обстановки в классе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освоении нового учебного материала на уроке и, при необходимости, индивидуальной коррекционной помощи в освоении АООП НОО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бучающемуся успеха в доступных ему видах деятельности с целью предупреждения у него негативного отношения к учебе и ситуации школьного обучения в цело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а 7.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ые предметные области учебного плана и учебные предмет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ответствуют ФГОС Н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дел III ФГОС НО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работа осуществляется во внеурочное время в объеме не менее 5 ча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разрабатывается  ОУ самостоятельно 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ФГОС НОО обучающихся с ОВЗ и с учётом Примерной  АООП НОО обучающихся с З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кон РФ «Об образовании», ст. 12.6.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884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должен соответствовать действующему законодательству Российской Федерации в области образования, обеспечивать введение в действие и реализацию требований ФГОС НОО обучающихся с ОВЗ и выполнение гигиенических требований к режиму образовательного процесса, установленных действующим СанПиНом.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2.3286-1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лане представлены семь предметных областей и коррекционно-развивающая обла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лан состоит из двух частей — обязательной части и части, формируемой участниками образовательных отношен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6:55:56Z</dcterms:created>
  <dc:creator>ELENA</dc:creator>
  <dc:description/>
  <dc:language>en-US</dc:language>
  <cp:lastModifiedBy>Ольга Гарголина</cp:lastModifiedBy>
  <dcterms:modified xsi:type="dcterms:W3CDTF">2020-09-25T09:58:43Z</dcterms:modified>
  <cp:revision>159</cp:revision>
  <dc:subject/>
  <dc:title>Разработка адаптированной образовательной  программы для учащихся с ОВЗ в основной школе</dc:title>
</cp:coreProperties>
</file>